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845-3543-4AEB-BB74-3AEC428E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044-73ED-4AC2-B5AE-5B2345F1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6DA-D478-4F85-B5E2-9ACB0E0B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4779-48CA-4242-B8F7-843DC1E8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7A0A-1C6A-4F38-85EA-CB6DCDA2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E2CC-BFBE-42F1-9935-748656ED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103F-A176-4736-AFF7-D11A9DDB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842C-6083-4F48-A35E-AB0F0531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AAFA-562C-41E3-AF2E-312BEBA5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4FE3-4371-4B5A-AD96-3A9F3F70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1FAB-6226-4947-BE8C-2D88DCBB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0159-5C0F-4717-AE1C-6E5CABB6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6A6D-64DC-4CB5-9FB0-606A3213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08B0-8658-4072-A963-3B5D6DC8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A7A0-BD8E-41D6-A0AC-D721BDC8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E39D-472A-45C8-817E-877E583E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EB02-8D30-428F-A7CD-510B70CC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3578-343A-4C96-8DDF-9E0E6387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8636-235F-47F0-BB2D-6180E1A5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E9B4-2520-4FCE-9ECD-9615147E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B887-7F39-4F05-A30B-83C59550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E34-365B-473C-AF22-2F5AEB24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512F-3649-4913-9647-DC8AFA42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002-76DB-4FAF-A96E-67EB9420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277E-C9C6-4EC9-AE93-FFDC312225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C672-21DE-4EE6-B39E-8FC37B3D7C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дагогическая практ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ку проход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хтареев Ол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фаров Ильн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ереселидзе Гиор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ерышов Владисл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фарова А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машула Оль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нбеков Дан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лимзянов Робе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зат Гатаул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http://cs.nblz.ru/pp/c639119/v639119722/9254/Vr6umYF7i1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http://cs.nblz.ru/pp/c639731/v639731308/725/1uFRQf9N3e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фаров Ильнар проводи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http://cs.nblz.ru/pp/c636426/v636426308/4b733/0tpAg_xe9f8.jpg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ир и Азат проводя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ttp://cs.nblz.ru/pp/c636426/v636426308/4b702/AVV-JNh8vU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http://cs.nblz.ru/pp/c636426/v636426308/4b6e6/6a9vZy41db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ида проводит урок в 5 класс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http://cs.nblz.ru/pp/c636426/v636426308/4b73d/yUhbSBEjxT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http://cs.nblz.ru/pp/c639621/v639621913/5483/cdQJarZgt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тареев Олег заполняет документацию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http://cs.nblz.ru/pp/c837320/v837320368/220f3/qQlYrTTSuh8.jp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рышов Владислав проводит урок в 1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http://cs.nblz.ru/pp/c639119/v639119722/925e/tcmxwqkcE7M.jpg"/>
          <p:cNvPicPr/>
          <p:nvPr/>
        </p:nvPicPr>
        <p:blipFill>
          <a:blip r:embed="rId2"/>
          <a:stretch/>
        </p:blipFill>
        <p:spPr>
          <a:xfrm>
            <a:off x="0" y="1198440"/>
            <a:ext cx="91440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02-08T05:29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